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7832-83F3-443C-8183-BD33B8BB4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DC37-E643-4886-9418-3AD80792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C7CA-16B0-4686-8187-CA7E5B318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71E9-98E9-4681-AD22-F0B7B1B83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B7EA-E789-41BB-9BB7-492A9472C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C895-991A-4E1B-A905-FEDDC7E3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F766-E040-415F-9FD7-038EBDEE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5957-52EB-4287-8AE0-A32B2CE6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C1D3-7AEF-4116-A045-9D703AEE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1639-E975-4925-B0E4-C788F600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49CA-AD9B-4A5E-A167-ACA56762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FBFE-C626-4CC1-9E7E-F58A2762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79F8-4999-4631-A757-40D064E8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5731-BB86-4D70-A0FC-37D764D1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1E4B-FBE8-49AD-A290-361CCFC5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BC2F-58DE-4B49-A1EF-F453592E9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A2B7-D71B-4826-A2BC-CF8E17327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42B8-026A-4061-8A43-9E08876F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E0A4-5CA7-4D08-9CD2-77A34F81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F14C-9305-449A-8510-94C52642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AA28-0658-4982-BB02-C59C1A46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557B-6C69-4BB4-8C1C-A4ABF8FE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70EF-55AD-4486-AAB5-A22B2AA9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CDB7-C130-4BB9-BA91-3613E866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9144000" cy="190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4048-1F60-438A-AFF1-DBCA3E492ADA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3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5"/>
            <p:cNvSpPr/>
            <p:nvPr/>
          </p:nvSpPr>
          <p:spPr>
            <a:xfrm>
              <a:off x="0" y="0"/>
              <a:ext cx="9144000" cy="380988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DADE-9D95-4EEC-87B1-7B0FAF3A713E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.png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ahoma"/>
              </a:rPr>
              <a:t>Your Worst </a:t>
            </a:r>
            <a:br>
              <a:rPr sz="6000"/>
            </a:br>
            <a:r>
              <a:rPr b="0" lang="en-US" sz="6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0000"/>
                </a:solidFill>
                <a:latin typeface="Tahoma"/>
              </a:rPr>
              <a:t>Nightmare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The letter should include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6480" y="1828800"/>
            <a:ext cx="734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An introduction and explanation of the problem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0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Your method of solving the problem (chart, table, maths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0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A good explanation of what happened to the secre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266480" y="1828800"/>
            <a:ext cx="4295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Suppose at 8:00am, you told your best friend a secret.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2" name="Object 11"/>
          <p:cNvGraphicFramePr/>
          <p:nvPr/>
        </p:nvGraphicFramePr>
        <p:xfrm>
          <a:off x="5418000" y="2027160"/>
          <a:ext cx="2659320" cy="27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8000" y="2027160"/>
                    <a:ext cx="2659320" cy="27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266480" y="1828440"/>
            <a:ext cx="42195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10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Then, your best friend told two other friends that secret within ten minute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5" name="Object 7"/>
          <p:cNvGraphicFramePr/>
          <p:nvPr/>
        </p:nvGraphicFramePr>
        <p:xfrm>
          <a:off x="5538960" y="2057400"/>
          <a:ext cx="269064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38960" y="2057400"/>
                    <a:ext cx="269064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266480" y="1828800"/>
            <a:ext cx="38098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Then those two each told two others in ten minute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8" name="Object 5"/>
          <p:cNvGraphicFramePr/>
          <p:nvPr/>
        </p:nvGraphicFramePr>
        <p:xfrm>
          <a:off x="5910120" y="2057400"/>
          <a:ext cx="138132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10120" y="2057400"/>
                    <a:ext cx="13813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6"/>
          <p:cNvGraphicFramePr/>
          <p:nvPr/>
        </p:nvGraphicFramePr>
        <p:xfrm>
          <a:off x="5934240" y="3657600"/>
          <a:ext cx="1380960" cy="14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34240" y="3657600"/>
                    <a:ext cx="13809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219320" y="1828440"/>
            <a:ext cx="7162560" cy="32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This continued all morning              with every new       person only              telling two               others every ten minute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Object 4" descr=""/>
          <p:cNvPicPr/>
          <p:nvPr/>
        </p:nvPicPr>
        <p:blipFill>
          <a:blip r:embed="rId1"/>
          <a:stretch/>
        </p:blipFill>
        <p:spPr>
          <a:xfrm>
            <a:off x="5389560" y="2590920"/>
            <a:ext cx="20779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67040" y="2383920"/>
            <a:ext cx="396396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10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How many people would know your secret by 12 noo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Object 16"/>
          <p:cNvGraphicFramePr/>
          <p:nvPr/>
        </p:nvGraphicFramePr>
        <p:xfrm>
          <a:off x="2590920" y="2666880"/>
          <a:ext cx="137952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666880"/>
                    <a:ext cx="13795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67040" y="2384280"/>
            <a:ext cx="3963960" cy="33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How many people would know your secret by 12 noo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8" name="Object 3"/>
          <p:cNvGraphicFramePr/>
          <p:nvPr/>
        </p:nvGraphicFramePr>
        <p:xfrm>
          <a:off x="3116160" y="2514600"/>
          <a:ext cx="137952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6160" y="2514600"/>
                    <a:ext cx="1379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4"/>
          <p:cNvGraphicFramePr/>
          <p:nvPr/>
        </p:nvGraphicFramePr>
        <p:xfrm>
          <a:off x="1736640" y="2514600"/>
          <a:ext cx="1379520" cy="15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6640" y="2514600"/>
                    <a:ext cx="1379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Object 5"/>
          <p:cNvGraphicFramePr/>
          <p:nvPr/>
        </p:nvGraphicFramePr>
        <p:xfrm>
          <a:off x="2583000" y="4038480"/>
          <a:ext cx="1379520" cy="152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83000" y="4038480"/>
                    <a:ext cx="13795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67040" y="2384280"/>
            <a:ext cx="3963960" cy="32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How many people would know your secret by 12 noo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5" name="Object 4"/>
          <p:cNvGraphicFramePr/>
          <p:nvPr/>
        </p:nvGraphicFramePr>
        <p:xfrm>
          <a:off x="3268800" y="1600200"/>
          <a:ext cx="137952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68800" y="1600200"/>
                    <a:ext cx="1379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5"/>
          <p:cNvGraphicFramePr/>
          <p:nvPr/>
        </p:nvGraphicFramePr>
        <p:xfrm>
          <a:off x="906480" y="1828800"/>
          <a:ext cx="1379520" cy="15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6480" y="1828800"/>
                    <a:ext cx="1379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6"/>
          <p:cNvGraphicFramePr/>
          <p:nvPr/>
        </p:nvGraphicFramePr>
        <p:xfrm>
          <a:off x="2354400" y="4191120"/>
          <a:ext cx="137952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54400" y="4191120"/>
                    <a:ext cx="1379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7"/>
          <p:cNvGraphicFramePr/>
          <p:nvPr/>
        </p:nvGraphicFramePr>
        <p:xfrm>
          <a:off x="3268800" y="4572000"/>
          <a:ext cx="1379520" cy="1523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68800" y="4572000"/>
                    <a:ext cx="1379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8"/>
          <p:cNvGraphicFramePr/>
          <p:nvPr/>
        </p:nvGraphicFramePr>
        <p:xfrm>
          <a:off x="1287360" y="4648320"/>
          <a:ext cx="1379520" cy="1523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87360" y="4648320"/>
                    <a:ext cx="1379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0"/>
          <p:cNvGraphicFramePr/>
          <p:nvPr/>
        </p:nvGraphicFramePr>
        <p:xfrm>
          <a:off x="2278080" y="2666880"/>
          <a:ext cx="1379520" cy="1524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6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78080" y="2666880"/>
                    <a:ext cx="13795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11"/>
          <p:cNvGraphicFramePr/>
          <p:nvPr/>
        </p:nvGraphicFramePr>
        <p:xfrm>
          <a:off x="3192480" y="3048120"/>
          <a:ext cx="1379520" cy="1523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8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192480" y="3048120"/>
                    <a:ext cx="1379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12"/>
          <p:cNvGraphicFramePr/>
          <p:nvPr/>
        </p:nvGraphicFramePr>
        <p:xfrm>
          <a:off x="1211400" y="3124080"/>
          <a:ext cx="1379520" cy="1524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0" name="Object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11400" y="3124080"/>
                    <a:ext cx="13795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13"/>
          <p:cNvGraphicFramePr/>
          <p:nvPr/>
        </p:nvGraphicFramePr>
        <p:xfrm>
          <a:off x="2201760" y="1447920"/>
          <a:ext cx="1379520" cy="1523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2" name="Object 1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01760" y="1447920"/>
                    <a:ext cx="1379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295280" y="2209680"/>
            <a:ext cx="4114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Write a letter  to your friend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explaining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 what happened to your secre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Object 4" descr=""/>
          <p:cNvPicPr/>
          <p:nvPr/>
        </p:nvPicPr>
        <p:blipFill>
          <a:blip r:embed="rId1"/>
          <a:stretch/>
        </p:blipFill>
        <p:spPr>
          <a:xfrm>
            <a:off x="4800600" y="1916280"/>
            <a:ext cx="3352680" cy="37494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5410080" y="2335320"/>
            <a:ext cx="27432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r Frien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irty rat!  Remember when I told you that secret?  Well it isn’t one anymor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8T04:10:22Z</dcterms:created>
  <dc:creator>C.U.S.D.</dc:creator>
  <dc:description/>
  <dc:language>en-US</dc:language>
  <cp:lastModifiedBy>Carol Moule</cp:lastModifiedBy>
  <dcterms:modified xsi:type="dcterms:W3CDTF">2010-08-13T12:17:45Z</dcterms:modified>
  <cp:revision>13</cp:revision>
  <dc:subject/>
  <dc:title>Your Worst Nightmare</dc:title>
</cp:coreProperties>
</file>